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0E7-2C21-4E60-A7B8-5C6BE25C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2AD-BD5F-49E2-99B7-D5D14A1B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B07-A40A-4D5D-B330-4D03BC13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884-3B7A-4F6F-96F1-86B8D1F3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6853-2C34-4E43-9775-AD469655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E43E-6794-433A-BEEA-DFEDBBF1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2DC5-BB90-43B7-9BF3-71E2E2A9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B127-359F-47BD-BEE4-496DE94A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60EF-8C24-46D1-B46C-950DC310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5E29-CACC-4C07-BEA2-E8BEB56A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C426-EEA4-4E81-9192-27F676AC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D91-E90C-4EBA-9C08-28EE2011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DBA1-18AA-4A96-9F43-D5FE30B4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01DF-2AF1-460A-B2BC-87F7AADC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986A-4F59-446E-8292-C9EF11B1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FF54-A46D-4062-A2AB-EE45AC34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9593-3BB7-43DD-B8FD-65E598D7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CF5-9F83-4A67-9288-FDEDA8D4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ADE-3D00-456B-AFC8-6674888C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FDC-7849-4AE2-949D-93FC05BF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A18-DEFC-4753-93BC-B42E2942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241-1AED-4E8B-8559-0808F3B9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3B8-B44A-42AD-9C0D-516463EA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203-1661-49C1-82AE-5C45FA2B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1E49-AFE4-450A-AFAB-A5E6DECF75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CA5D-4CCD-4C6E-9CAD-D7D5FB1D50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777564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История развития   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автомобилей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6000" y="3933360"/>
            <a:ext cx="6912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ирязев Серг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к 3 «в»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ОУ СОШ №8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 проекта: 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лосохова Людмила Евген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сква  2012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кипаж с бензиновым двигателе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ение двигателя внутреннего сгорания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5 году был изготовлен первый экипаж с бензиновым двигате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1905%20Buick%20C"/>
          <p:cNvPicPr/>
          <p:nvPr/>
        </p:nvPicPr>
        <p:blipFill>
          <a:blip r:embed="rId1"/>
          <a:stretch/>
        </p:blipFill>
        <p:spPr>
          <a:xfrm>
            <a:off x="4932360" y="2349360"/>
            <a:ext cx="392760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временный автомоби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тех пор автомобиль претерпел множество измен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автомобиль все также стоит на 4-ех колесах и у него все еще бензиновый двига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69914"/>
          <p:cNvPicPr/>
          <p:nvPr/>
        </p:nvPicPr>
        <p:blipFill>
          <a:blip r:embed="rId1"/>
          <a:stretch/>
        </p:blipFill>
        <p:spPr>
          <a:xfrm>
            <a:off x="491796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ко-автомобиль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een ap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о-автомобиль не  загрязняет окружающую среду,  а по мере движения,  при помощи встроенных фильтров, очищает возду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ecocar-greenapple01"/>
          <p:cNvPicPr/>
          <p:nvPr/>
        </p:nvPicPr>
        <p:blipFill>
          <a:blip r:embed="rId1"/>
          <a:stretch/>
        </p:blipFill>
        <p:spPr>
          <a:xfrm>
            <a:off x="4917960" y="2276640"/>
            <a:ext cx="39276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дро-авиа-мобиль «Дельфин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813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ый сверхскоростной гидро-авиа-моби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Гидро» - работать на простой и морской во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Авиа» - передвигаться не только по земле, но и по воздух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ме того, он будет иметь встроенный фильтр для очистки воды или ее опресн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дель имеет современный обтекаемый ви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SL271176"/>
          <p:cNvPicPr/>
          <p:nvPr/>
        </p:nvPicPr>
        <p:blipFill>
          <a:blip r:embed="rId1"/>
          <a:stretch/>
        </p:blipFill>
        <p:spPr>
          <a:xfrm>
            <a:off x="4788000" y="2276640"/>
            <a:ext cx="40719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автомобиля, как и история человека, пока не закончена и много интересного ждет нас впере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слава первым мастерам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слава тем, кто строит нам в наш век автомобили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MP900442638[1]"/>
          <p:cNvPicPr/>
          <p:nvPr/>
        </p:nvPicPr>
        <p:blipFill>
          <a:blip r:embed="rId1"/>
          <a:stretch/>
        </p:blipFill>
        <p:spPr>
          <a:xfrm>
            <a:off x="5148360" y="2565360"/>
            <a:ext cx="3671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омоби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 вам хочу поведать бы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том, как был автомоби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дальным самока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чудищем крылат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с парусами и рул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 сухопутным корабле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в век угля и пара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ратишкой самовар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на бензиновый мо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перешел в итог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верно служит с этих п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м путникам в доро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volkov_aleksandr_urfin_dzhyus_i_ego_derevyannyie_soldatyi_(s_illyustratsiyami)_urfin13"/>
          <p:cNvPicPr/>
          <p:nvPr/>
        </p:nvPicPr>
        <p:blipFill>
          <a:blip r:embed="rId1"/>
          <a:stretch/>
        </p:blipFill>
        <p:spPr>
          <a:xfrm>
            <a:off x="1359000" y="2095560"/>
            <a:ext cx="2886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про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чего все начало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автомобили были раньш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развивался автомобил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м должен быть автомобиль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1 ве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model1"/>
          <p:cNvPicPr/>
          <p:nvPr/>
        </p:nvPicPr>
        <p:blipFill>
          <a:blip r:embed="rId1"/>
          <a:stretch/>
        </p:blipFill>
        <p:spPr>
          <a:xfrm>
            <a:off x="0" y="692280"/>
            <a:ext cx="1857240" cy="1495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post-18472-1259517426_thumb"/>
          <p:cNvPicPr/>
          <p:nvPr/>
        </p:nvPicPr>
        <p:blipFill>
          <a:blip r:embed="rId2"/>
          <a:stretch/>
        </p:blipFill>
        <p:spPr>
          <a:xfrm>
            <a:off x="0" y="2805120"/>
            <a:ext cx="1905120" cy="1324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krossover11"/>
          <p:cNvPicPr/>
          <p:nvPr/>
        </p:nvPicPr>
        <p:blipFill>
          <a:blip r:embed="rId3"/>
          <a:stretch/>
        </p:blipFill>
        <p:spPr>
          <a:xfrm>
            <a:off x="0" y="4770360"/>
            <a:ext cx="23814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и и задач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40100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зн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создании «самоходной повозки», которую мы сейчас называем автомоби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 изобретении экологически чистого автомоби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м должен быть автомобиле будущ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avto"/>
          <p:cNvPicPr/>
          <p:nvPr/>
        </p:nvPicPr>
        <p:blipFill>
          <a:blip r:embed="rId1"/>
          <a:stretch/>
        </p:blipFill>
        <p:spPr>
          <a:xfrm>
            <a:off x="4976640" y="209556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лес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ось все с древн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обретение колеса дало очень мощный толчок развитию техн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220px-Wheel_Iran"/>
          <p:cNvPicPr/>
          <p:nvPr/>
        </p:nvPicPr>
        <p:blipFill>
          <a:blip r:embed="rId1"/>
          <a:stretch/>
        </p:blipFill>
        <p:spPr>
          <a:xfrm>
            <a:off x="5484960" y="2349360"/>
            <a:ext cx="2793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лег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явилась телега. Сначала человек сам тащил ее, но вскоре стал привлекать к тяжелому труду своих четвероногих собратье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GenaMikheev098792"/>
          <p:cNvPicPr/>
          <p:nvPr/>
        </p:nvPicPr>
        <p:blipFill>
          <a:blip r:embed="rId1"/>
          <a:stretch/>
        </p:blipFill>
        <p:spPr>
          <a:xfrm>
            <a:off x="4932360" y="2205000"/>
            <a:ext cx="39276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лега управляемая ветро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коре человек придумал использовать ветер,  но ветер дул не всегда.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Безымянный"/>
          <p:cNvPicPr/>
          <p:nvPr/>
        </p:nvPicPr>
        <p:blipFill>
          <a:blip r:embed="rId1"/>
          <a:stretch/>
        </p:blipFill>
        <p:spPr>
          <a:xfrm>
            <a:off x="5197320" y="1905120"/>
            <a:ext cx="3368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62800" cy="16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амодвижущиеся экипажи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интересной  является трехколесная самокатка Ивана Кулибина, которую он создал в 1791 году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625_2"/>
          <p:cNvPicPr/>
          <p:nvPr/>
        </p:nvPicPr>
        <p:blipFill>
          <a:blip r:embed="rId1"/>
          <a:stretch/>
        </p:blipFill>
        <p:spPr>
          <a:xfrm>
            <a:off x="4917960" y="2349360"/>
            <a:ext cx="39276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аровая повоз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ились паровые двигате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763 году французский инженер Коньо построил первую паровую повоз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ая машина могла ехать целых пятнадцать ми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800px-FardierdeCugnot20050111"/>
          <p:cNvPicPr/>
          <p:nvPr/>
        </p:nvPicPr>
        <p:blipFill>
          <a:blip r:embed="rId1"/>
          <a:stretch/>
        </p:blipFill>
        <p:spPr>
          <a:xfrm>
            <a:off x="4859280" y="2565360"/>
            <a:ext cx="39276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8:01:54Z</dcterms:created>
  <dc:creator>Admin</dc:creator>
  <dc:description/>
  <dc:language>en-US</dc:language>
  <cp:lastModifiedBy>Owner</cp:lastModifiedBy>
  <dcterms:modified xsi:type="dcterms:W3CDTF">2012-05-29T11:37:54Z</dcterms:modified>
  <cp:revision>8</cp:revision>
  <dc:subject/>
  <dc:title>История развития      автомобилей</dc:title>
</cp:coreProperties>
</file>